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080625" cy="7559675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B30E-816A-4A30-80F4-F4BD7268D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ACC96-E877-45CD-B747-553B39D12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9E6F3-4FE7-408B-97F7-62C25FE5B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756E0-54F8-4083-A76F-214A30DF86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C32D-E12B-4821-92B0-B341066D0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9EB99-4722-4490-9BAD-B1C609BE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6598B-70E2-4921-8EBD-0BF7BF33C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86ABC-EEBA-4D7B-97EA-1F5640295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88FEC-244F-41DE-A06B-0143BB536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079F-1330-48CD-87A5-438D9B62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107-89FB-41E4-AF74-267BE2485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AB79E-CBF8-4F7B-ABB6-4B0CF961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25401A-48A4-43C6-AD75-8748242387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32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713240" y="2014560"/>
            <a:ext cx="62474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 Suivi régional des parcours VAE : pourquoi, com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54640" y="2987640"/>
            <a:ext cx="28213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Les dispositif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33040" y="3851280"/>
            <a:ext cx="562392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réer un espace régional de suivi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84160" y="4716360"/>
            <a:ext cx="14133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Connex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3280" y="3187800"/>
            <a:ext cx="9074160" cy="238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’export de votre fichier de données harmonisé et anony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enregistrement de votre fichier dans le serve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fusion de vos données avec celles enregistrées antérieur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ncorporation de ces données dans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s données seront enregistrées sur le serveur. Elles resteront parfaitement anonym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3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46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176720" y="2700360"/>
            <a:ext cx="504036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</a:t>
            </a:r>
            <a:r>
              <a:rPr b="0" lang="fr-FR" sz="1400" spc="-1" strike="noStrike">
                <a:solidFill>
                  <a:srgbClr val="0000cc"/>
                </a:solidFill>
                <a:latin typeface="Arial"/>
              </a:rPr>
              <a:t>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241280" y="4194000"/>
            <a:ext cx="696780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s données ont été correctement exportées dans la base des parcours VA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s pourrez les consulter d’ici 48h  en revenant vers le 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« mes fichiers, mes statistiques 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58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ffffff"/>
                </a:solidFill>
                <a:latin typeface="Arial"/>
              </a:rPr>
              <a:t>Mes fichiers, mes statist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1" name=""/>
          <p:cNvGraphicFramePr/>
          <p:nvPr/>
        </p:nvGraphicFramePr>
        <p:xfrm>
          <a:off x="576360" y="1835280"/>
          <a:ext cx="8208720" cy="174600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87308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62" name=""/>
          <p:cNvGraphicFramePr/>
          <p:nvPr/>
        </p:nvGraphicFramePr>
        <p:xfrm>
          <a:off x="647640" y="4572000"/>
          <a:ext cx="6769080" cy="2419200"/>
        </p:xfrm>
        <a:graphic>
          <a:graphicData uri="http://schemas.openxmlformats.org/drawingml/2006/table">
            <a:tbl>
              <a:tblPr/>
              <a:tblGrid>
                <a:gridCol w="2808360"/>
                <a:gridCol w="201600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se de données parcours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 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"/>
          <p:cNvSpPr/>
          <p:nvPr/>
        </p:nvSpPr>
        <p:spPr>
          <a:xfrm>
            <a:off x="479124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7310520" y="214956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5904000" y="50878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5904000" y="53802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904000" y="565164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916600" y="593892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ableau de bord gestion / éd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2" name=""/>
          <p:cNvGraphicFramePr/>
          <p:nvPr/>
        </p:nvGraphicFramePr>
        <p:xfrm>
          <a:off x="360360" y="1692360"/>
          <a:ext cx="9217080" cy="2638440"/>
        </p:xfrm>
        <a:graphic>
          <a:graphicData uri="http://schemas.openxmlformats.org/drawingml/2006/table">
            <a:tbl>
              <a:tblPr/>
              <a:tblGrid>
                <a:gridCol w="1550880"/>
                <a:gridCol w="2625840"/>
                <a:gridCol w="1150920"/>
                <a:gridCol w="1008000"/>
                <a:gridCol w="1008000"/>
                <a:gridCol w="187344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ertificateu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ichier export enregistr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aité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 le fichier tra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7/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recc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JSC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RAF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Université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mplém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ints Conseil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6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431640" y="5757840"/>
          <a:ext cx="6769440" cy="1444680"/>
        </p:xfrm>
        <a:graphic>
          <a:graphicData uri="http://schemas.openxmlformats.org/drawingml/2006/table">
            <a:tbl>
              <a:tblPr/>
              <a:tblGrid>
                <a:gridCol w="2808360"/>
                <a:gridCol w="2016360"/>
                <a:gridCol w="19447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tist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te du dernier éta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ir, télécharg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rôle qualité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permanen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dicateurs spécifiqu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/09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isations annuel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4573440" y="231444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85240" y="23050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678640" y="6093000"/>
            <a:ext cx="1079280" cy="21564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7964" h="21600">
                <a:moveTo>
                  <a:pt x="0" y="0"/>
                </a:moveTo>
                <a:lnTo>
                  <a:pt x="107964" y="0"/>
                </a:lnTo>
                <a:lnTo>
                  <a:pt x="107964" y="21600"/>
                </a:lnTo>
                <a:lnTo>
                  <a:pt x="0" y="21600"/>
                </a:lnTo>
                <a:close/>
              </a:path>
              <a:path fill="lightenLess" w="107964" h="21600">
                <a:moveTo>
                  <a:pt x="0" y="0"/>
                </a:moveTo>
                <a:lnTo>
                  <a:pt x="107964" y="0"/>
                </a:lnTo>
                <a:lnTo>
                  <a:pt x="106564" y="1400"/>
                </a:lnTo>
                <a:lnTo>
                  <a:pt x="1400" y="1400"/>
                </a:lnTo>
                <a:close/>
              </a:path>
              <a:path fill="darken" w="107964" h="21600">
                <a:moveTo>
                  <a:pt x="107964" y="0"/>
                </a:moveTo>
                <a:lnTo>
                  <a:pt x="107964" y="21600"/>
                </a:lnTo>
                <a:lnTo>
                  <a:pt x="106564" y="20200"/>
                </a:lnTo>
                <a:lnTo>
                  <a:pt x="106564" y="1400"/>
                </a:lnTo>
                <a:close/>
              </a:path>
              <a:path fill="darkenLess" w="107964" h="21600">
                <a:moveTo>
                  <a:pt x="1079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564" y="20200"/>
                </a:lnTo>
                <a:close/>
              </a:path>
              <a:path fill="lighten" w="1079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688000" y="6380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680080" y="664704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61080" y="235260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583160" y="2614680"/>
            <a:ext cx="1079280" cy="216000"/>
          </a:xfrm>
          <a:custGeom>
            <a:avLst/>
            <a:gdLst>
              <a:gd name="textAreaLeft" fmla="*/ 13680 w 1079280"/>
              <a:gd name="textAreaRight" fmla="*/ 1065600 w 107928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784" h="21600">
                <a:moveTo>
                  <a:pt x="0" y="0"/>
                </a:moveTo>
                <a:lnTo>
                  <a:pt x="107784" y="0"/>
                </a:lnTo>
                <a:lnTo>
                  <a:pt x="107784" y="21600"/>
                </a:lnTo>
                <a:lnTo>
                  <a:pt x="0" y="21600"/>
                </a:lnTo>
                <a:close/>
              </a:path>
              <a:path fill="lightenLess" w="107784" h="21600">
                <a:moveTo>
                  <a:pt x="0" y="0"/>
                </a:moveTo>
                <a:lnTo>
                  <a:pt x="107784" y="0"/>
                </a:lnTo>
                <a:lnTo>
                  <a:pt x="106384" y="1400"/>
                </a:lnTo>
                <a:lnTo>
                  <a:pt x="1400" y="1400"/>
                </a:lnTo>
                <a:close/>
              </a:path>
              <a:path fill="darken" w="107784" h="21600">
                <a:moveTo>
                  <a:pt x="107784" y="0"/>
                </a:moveTo>
                <a:lnTo>
                  <a:pt x="107784" y="21600"/>
                </a:lnTo>
                <a:lnTo>
                  <a:pt x="106384" y="20200"/>
                </a:lnTo>
                <a:lnTo>
                  <a:pt x="106384" y="1400"/>
                </a:lnTo>
                <a:close/>
              </a:path>
              <a:path fill="darkenLess" w="107784" h="21600">
                <a:moveTo>
                  <a:pt x="1077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384" y="20200"/>
                </a:lnTo>
                <a:close/>
              </a:path>
              <a:path fill="lighten" w="1077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86280" y="26146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2" name=""/>
          <p:cNvGraphicFramePr/>
          <p:nvPr/>
        </p:nvGraphicFramePr>
        <p:xfrm>
          <a:off x="431640" y="4788000"/>
          <a:ext cx="6719760" cy="612720"/>
        </p:xfrm>
        <a:graphic>
          <a:graphicData uri="http://schemas.openxmlformats.org/drawingml/2006/table">
            <a:tbl>
              <a:tblPr/>
              <a:tblGrid>
                <a:gridCol w="2820960"/>
                <a:gridCol w="1008000"/>
                <a:gridCol w="1008000"/>
                <a:gridCol w="18828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usion de la base VA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nc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it le 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1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élécharger la bas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mpagne octobre 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r>
                        <a:rPr b="0" lang="fr-FR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/10/20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449280"/>
                          <a:tab algn="l" pos="898560"/>
                          <a:tab algn="l" pos="1347840"/>
                          <a:tab algn="l" pos="1797120"/>
                          <a:tab algn="l" pos="2246400"/>
                          <a:tab algn="l" pos="2695680"/>
                          <a:tab algn="l" pos="3144960"/>
                          <a:tab algn="l" pos="3594240"/>
                          <a:tab algn="l" pos="4043520"/>
                          <a:tab algn="l" pos="4492800"/>
                          <a:tab algn="l" pos="4941720"/>
                          <a:tab algn="l" pos="5391000"/>
                          <a:tab algn="l" pos="5840280"/>
                          <a:tab algn="l" pos="6289560"/>
                          <a:tab algn="l" pos="6738840"/>
                          <a:tab algn="l" pos="7188120"/>
                          <a:tab algn="l" pos="7637400"/>
                          <a:tab algn="l" pos="8086680"/>
                          <a:tab algn="l" pos="8535960"/>
                          <a:tab algn="l" pos="898524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3" name=""/>
          <p:cNvSpPr/>
          <p:nvPr/>
        </p:nvSpPr>
        <p:spPr>
          <a:xfrm>
            <a:off x="3313080" y="5114880"/>
            <a:ext cx="863640" cy="21600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86256" h="21600">
                <a:moveTo>
                  <a:pt x="0" y="0"/>
                </a:moveTo>
                <a:lnTo>
                  <a:pt x="86256" y="0"/>
                </a:lnTo>
                <a:lnTo>
                  <a:pt x="86256" y="21600"/>
                </a:lnTo>
                <a:lnTo>
                  <a:pt x="0" y="21600"/>
                </a:lnTo>
                <a:close/>
              </a:path>
              <a:path fill="lightenLess" w="86256" h="21600">
                <a:moveTo>
                  <a:pt x="0" y="0"/>
                </a:moveTo>
                <a:lnTo>
                  <a:pt x="86256" y="0"/>
                </a:lnTo>
                <a:lnTo>
                  <a:pt x="84856" y="1400"/>
                </a:lnTo>
                <a:lnTo>
                  <a:pt x="1400" y="1400"/>
                </a:lnTo>
                <a:close/>
              </a:path>
              <a:path fill="darken" w="86256" h="21600">
                <a:moveTo>
                  <a:pt x="86256" y="0"/>
                </a:moveTo>
                <a:lnTo>
                  <a:pt x="86256" y="21600"/>
                </a:lnTo>
                <a:lnTo>
                  <a:pt x="84856" y="20200"/>
                </a:lnTo>
                <a:lnTo>
                  <a:pt x="84856" y="1400"/>
                </a:lnTo>
                <a:close/>
              </a:path>
              <a:path fill="darkenLess" w="86256" h="21600">
                <a:moveTo>
                  <a:pt x="86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856" y="20200"/>
                </a:lnTo>
                <a:close/>
              </a:path>
              <a:path fill="lighten" w="86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fu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689440" y="51274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573440" y="4079880"/>
            <a:ext cx="1079640" cy="21600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107820" h="21600">
                <a:moveTo>
                  <a:pt x="0" y="0"/>
                </a:moveTo>
                <a:lnTo>
                  <a:pt x="107820" y="0"/>
                </a:lnTo>
                <a:lnTo>
                  <a:pt x="107820" y="21600"/>
                </a:lnTo>
                <a:lnTo>
                  <a:pt x="0" y="21600"/>
                </a:lnTo>
                <a:close/>
              </a:path>
              <a:path fill="lightenLess" w="107820" h="21600">
                <a:moveTo>
                  <a:pt x="0" y="0"/>
                </a:moveTo>
                <a:lnTo>
                  <a:pt x="107820" y="0"/>
                </a:lnTo>
                <a:lnTo>
                  <a:pt x="106420" y="1400"/>
                </a:lnTo>
                <a:lnTo>
                  <a:pt x="1400" y="1400"/>
                </a:lnTo>
                <a:close/>
              </a:path>
              <a:path fill="darken" w="107820" h="21600">
                <a:moveTo>
                  <a:pt x="107820" y="0"/>
                </a:moveTo>
                <a:lnTo>
                  <a:pt x="107820" y="21600"/>
                </a:lnTo>
                <a:lnTo>
                  <a:pt x="106420" y="20200"/>
                </a:lnTo>
                <a:lnTo>
                  <a:pt x="106420" y="1400"/>
                </a:lnTo>
                <a:close/>
              </a:path>
              <a:path fill="darkenLess" w="107820" h="21600">
                <a:moveTo>
                  <a:pt x="1078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20" y="20200"/>
                </a:lnTo>
                <a:close/>
              </a:path>
              <a:path fill="lighten" w="1078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97840" y="4067280"/>
            <a:ext cx="1079640" cy="215640"/>
          </a:xfrm>
          <a:custGeom>
            <a:avLst/>
            <a:gdLst>
              <a:gd name="textAreaLeft" fmla="*/ 13680 w 1079640"/>
              <a:gd name="textAreaRight" fmla="*/ 1065960 w 1079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108000" h="21600">
                <a:moveTo>
                  <a:pt x="0" y="0"/>
                </a:moveTo>
                <a:lnTo>
                  <a:pt x="108000" y="0"/>
                </a:lnTo>
                <a:lnTo>
                  <a:pt x="108000" y="21600"/>
                </a:lnTo>
                <a:lnTo>
                  <a:pt x="0" y="21600"/>
                </a:lnTo>
                <a:close/>
              </a:path>
              <a:path fill="lightenLess" w="108000" h="21600">
                <a:moveTo>
                  <a:pt x="0" y="0"/>
                </a:moveTo>
                <a:lnTo>
                  <a:pt x="108000" y="0"/>
                </a:lnTo>
                <a:lnTo>
                  <a:pt x="106600" y="1400"/>
                </a:lnTo>
                <a:lnTo>
                  <a:pt x="1400" y="1400"/>
                </a:lnTo>
                <a:close/>
              </a:path>
              <a:path fill="darken" w="108000" h="21600">
                <a:moveTo>
                  <a:pt x="108000" y="0"/>
                </a:moveTo>
                <a:lnTo>
                  <a:pt x="108000" y="21600"/>
                </a:lnTo>
                <a:lnTo>
                  <a:pt x="106600" y="20200"/>
                </a:lnTo>
                <a:lnTo>
                  <a:pt x="106600" y="1400"/>
                </a:lnTo>
                <a:close/>
              </a:path>
              <a:path fill="darkenLess" w="108000" h="21600">
                <a:moveTo>
                  <a:pt x="1080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600" y="20200"/>
                </a:lnTo>
                <a:close/>
              </a:path>
              <a:path fill="lighten" w="1080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vo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786280" y="4067280"/>
            <a:ext cx="863640" cy="215640"/>
          </a:xfrm>
          <a:custGeom>
            <a:avLst/>
            <a:gdLst>
              <a:gd name="textAreaLeft" fmla="*/ 13680 w 863640"/>
              <a:gd name="textAreaRight" fmla="*/ 849960 w 86364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86400" h="21600">
                <a:moveTo>
                  <a:pt x="0" y="0"/>
                </a:moveTo>
                <a:lnTo>
                  <a:pt x="86400" y="0"/>
                </a:lnTo>
                <a:lnTo>
                  <a:pt x="86400" y="21600"/>
                </a:lnTo>
                <a:lnTo>
                  <a:pt x="0" y="21600"/>
                </a:lnTo>
                <a:close/>
              </a:path>
              <a:path fill="lightenLess" w="86400" h="21600">
                <a:moveTo>
                  <a:pt x="0" y="0"/>
                </a:moveTo>
                <a:lnTo>
                  <a:pt x="86400" y="0"/>
                </a:lnTo>
                <a:lnTo>
                  <a:pt x="85000" y="1400"/>
                </a:lnTo>
                <a:lnTo>
                  <a:pt x="1400" y="1400"/>
                </a:lnTo>
                <a:close/>
              </a:path>
              <a:path fill="darken" w="86400" h="21600">
                <a:moveTo>
                  <a:pt x="86400" y="0"/>
                </a:moveTo>
                <a:lnTo>
                  <a:pt x="86400" y="21600"/>
                </a:lnTo>
                <a:lnTo>
                  <a:pt x="85000" y="20200"/>
                </a:lnTo>
                <a:lnTo>
                  <a:pt x="85000" y="1400"/>
                </a:lnTo>
                <a:close/>
              </a:path>
              <a:path fill="darkenLess" w="86400" h="21600">
                <a:moveTo>
                  <a:pt x="86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5000" y="20200"/>
                </a:lnTo>
                <a:close/>
              </a:path>
              <a:path fill="lighten" w="86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8000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400" spc="-1" strike="noStrike">
                <a:solidFill>
                  <a:srgbClr val="ffffff"/>
                </a:solidFill>
                <a:latin typeface="Arial"/>
              </a:rPr>
              <a:t>trai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Traitement fichier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76360" y="1619280"/>
            <a:ext cx="9074160" cy="44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ertificateur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DAVA.            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Fichier export du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25/9/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 trai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e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134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c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2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identification et suppression des enregistrements sans dates dépôt de dossier ni date de recevabil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: 5 enregistrements sur 678 supprimé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traitements spécifiques conformément aux règ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0" lang="fr-FR" sz="1800" spc="-1" strike="noStrike">
                <a:solidFill>
                  <a:srgbClr val="008000"/>
                </a:solidFill>
                <a:latin typeface="Arial"/>
              </a:rPr>
              <a:t>Fa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2000" y="601200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92000" y="601200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73200" y="6600960"/>
            <a:ext cx="508968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u rapport et du fichier trai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Mise à jour de la base des parcours VA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76360" y="1763640"/>
            <a:ext cx="907416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Campag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: octobre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a mise à j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720720" y="298764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720720" y="298764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46200" y="4800600"/>
            <a:ext cx="552096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’édition de la nouvelle version de la 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0160" y="3851280"/>
            <a:ext cx="49158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 les compléments d’enregist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ffffff"/>
          </a:solidFill>
          <a:ln w="284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1800" spc="-1" strike="noStrike">
                <a:solidFill>
                  <a:srgbClr val="0066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Compléments</a:t>
            </a:r>
            <a:r>
              <a:rPr b="1" i="1" lang="de-DE" sz="2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1" i="1" lang="fr-FR" sz="2800" spc="-1" strike="noStrike">
                <a:solidFill>
                  <a:srgbClr val="0066ff"/>
                </a:solidFill>
                <a:latin typeface="Arial"/>
              </a:rPr>
              <a:t>d‘enregistr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722200" y="108000"/>
            <a:ext cx="314964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Identifiant : Admin I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600" spc="-1" strike="noStrike">
                <a:solidFill>
                  <a:srgbClr val="0000cc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76360" y="1763640"/>
            <a:ext cx="9074160" cy="468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ttachement du fichier de données complémentair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éparation du fichier d’export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réez le fichier d’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nregistrement du fichier dans le serveur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enregistr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aitement des données avant fusion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trait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usion des données dans la base des parcours VAE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fusionn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10080720" cy="1260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de-DE" sz="24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51960" y="1476360"/>
            <a:ext cx="4686840" cy="34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onnées et résultats statistiques régionau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Exportez vo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Mes fichiers, mes statistiq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342120" y="1692360"/>
            <a:ext cx="32353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Guide d’utilisation du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on comp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877360" y="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51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Données non enregistrées</a:t>
            </a: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419120" y="3527280"/>
            <a:ext cx="743760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Export des données, mode d’emploi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Démarrer l’assistant d’exportation des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démarr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0" y="0"/>
            <a:ext cx="10080720" cy="1476360"/>
          </a:xfrm>
          <a:prstGeom prst="roundRect">
            <a:avLst>
              <a:gd name="adj" fmla="val 125"/>
            </a:avLst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7308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Suivi régional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1800" spc="-1" strike="noStrike">
                <a:solidFill>
                  <a:srgbClr val="ffffff"/>
                </a:solidFill>
                <a:latin typeface="Arial"/>
              </a:rPr>
              <a:t>Provence Alpes Côte d‘Az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Interface d‘export des données certificateu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723280" y="108000"/>
            <a:ext cx="419796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Identifiant : Dupond I Direccte I </a:t>
            </a:r>
            <a:r>
              <a:rPr b="0" lang="fr-FR" sz="1600" spc="-1" strike="noStrike">
                <a:solidFill>
                  <a:srgbClr val="ccccff"/>
                </a:solidFill>
                <a:latin typeface="Arial"/>
              </a:rPr>
              <a:t>déconnecter</a:t>
            </a:r>
            <a:r>
              <a:rPr b="0" lang="fr-FR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03280" y="3274920"/>
            <a:ext cx="743724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attachez votre fichier de donnée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attach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719280" y="3780000"/>
            <a:ext cx="4619520" cy="300960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6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503280" y="3274920"/>
            <a:ext cx="9074160" cy="264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de données est correctement paramétré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continu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a été traité pour le rendre conform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 X colonnes, Y lignes, Z doublons complets ont été supprimés : 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continuez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tre fichier de données ne peut pas être traité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3000"/>
              </a:lnSpc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1" i="1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-</a:t>
            </a:r>
            <a:r>
              <a:rPr b="1" i="1" lang="fr-FR" sz="1800" spc="-1" strike="noStrike">
                <a:solidFill>
                  <a:srgbClr val="0000cc"/>
                </a:solidFill>
                <a:latin typeface="Arial"/>
                <a:ea typeface="Arial Unicode MS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  <a:ea typeface="Arial Unicode MS"/>
              </a:rPr>
              <a:t>il n’est pas au format .csv ou tabulé : enregistrez votre fichier au bon format et recomme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7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03280" y="3274920"/>
            <a:ext cx="9074160" cy="34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Lancez la préparation de votre fichier d’export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harmonisation des champs du fichier avec la base régionale des parcours VA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normalisation des noms, prénoms et dates de naiss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- anonymisation du fichier : remplacement des noms et prénoms par un code    indéchiffrab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A l’issue de cette opération, vous pourrez consulter le fichier traité et décider ou non de l’enregistrer sur le serveur (export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Jusqu’à cette étape, vos données ne sont pas enregistré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0000cc"/>
                </a:solidFill>
                <a:latin typeface="Arial"/>
              </a:rPr>
              <a:t>Lance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89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295280" y="3708360"/>
            <a:ext cx="525780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42000" y="4194000"/>
            <a:ext cx="4975200" cy="23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000" spc="-1" strike="noStrike">
                <a:solidFill>
                  <a:srgbClr val="ffffff"/>
                </a:solidFill>
                <a:latin typeface="Arial"/>
              </a:rPr>
              <a:t>Harmonisation des champs.....normalisation des valeurs..............anonymisation........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01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360360" y="2050920"/>
            <a:ext cx="9504360" cy="37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1125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ffffff"/>
                </a:solidFill>
                <a:latin typeface="Arial Unicode MS"/>
              </a:rPr>
              <a:t>     </a:t>
            </a: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alidation                 Préparation du fichier d’export                  Ex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0328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92360" y="2124000"/>
            <a:ext cx="216000" cy="216000"/>
          </a:xfrm>
          <a:prstGeom prst="rect">
            <a:avLst/>
          </a:prstGeom>
          <a:solidFill>
            <a:srgbClr val="00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769080" y="2124000"/>
            <a:ext cx="216000" cy="21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95280" y="3708360"/>
            <a:ext cx="7848720" cy="2872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241280" y="4194000"/>
            <a:ext cx="6967800" cy="31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tre fichier a été correctement configur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Arial"/>
              </a:rPr>
              <a:t>Voulez vous contrôler vos données avant leur enregistrement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Voi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Voulez vous exporter vos données vers le serveur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Exporter mes do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13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480000" y="161928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10200" y="2695680"/>
            <a:ext cx="50400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"/>
              </a:rPr>
              <a:t>Données non enregistrées    Données enregistré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360360" y="2050920"/>
            <a:ext cx="9504360" cy="377280"/>
            <a:chOff x="360360" y="2050920"/>
            <a:chExt cx="9504360" cy="377280"/>
          </a:xfrm>
        </p:grpSpPr>
        <p:sp>
          <p:nvSpPr>
            <p:cNvPr id="118" name=""/>
            <p:cNvSpPr/>
            <p:nvPr/>
          </p:nvSpPr>
          <p:spPr>
            <a:xfrm>
              <a:off x="360360" y="2050920"/>
              <a:ext cx="9504360" cy="37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spcBef>
                  <a:spcPts val="1125"/>
                </a:spcBef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2000" spc="-1" strike="noStrike">
                  <a:solidFill>
                    <a:srgbClr val="ffffff"/>
                  </a:solidFill>
                  <a:latin typeface="Arial Unicode MS"/>
                </a:rPr>
                <a:t>     </a:t>
              </a:r>
              <a:r>
                <a:rPr b="0" lang="fr-FR" sz="1800" spc="-1" strike="noStrike">
                  <a:solidFill>
                    <a:srgbClr val="ffffff"/>
                  </a:solidFill>
                  <a:latin typeface="Arial"/>
                </a:rPr>
                <a:t>Validation                 Préparation du fichier d’export                  Expo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328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592360" y="2124000"/>
              <a:ext cx="216000" cy="216000"/>
            </a:xfrm>
            <a:prstGeom prst="rect">
              <a:avLst/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769080" y="2124000"/>
              <a:ext cx="216000" cy="216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3059280"/>
            <a:ext cx="10080720" cy="303372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721080" y="6372360"/>
            <a:ext cx="3126600" cy="3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i="1" lang="fr-FR" sz="1800" spc="-1" strike="noStrike">
                <a:solidFill>
                  <a:srgbClr val="3333ff"/>
                </a:solidFill>
                <a:latin typeface="Arial"/>
              </a:rPr>
              <a:t>Télécharger mes données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0"/>
            <a:ext cx="10080720" cy="1476360"/>
            <a:chOff x="0" y="0"/>
            <a:chExt cx="10080720" cy="1476360"/>
          </a:xfrm>
        </p:grpSpPr>
        <p:sp>
          <p:nvSpPr>
            <p:cNvPr id="125" name=""/>
            <p:cNvSpPr/>
            <p:nvPr/>
          </p:nvSpPr>
          <p:spPr>
            <a:xfrm>
              <a:off x="0" y="0"/>
              <a:ext cx="10080720" cy="1476360"/>
            </a:xfrm>
            <a:prstGeom prst="roundRect">
              <a:avLst>
                <a:gd name="adj" fmla="val 125"/>
              </a:avLst>
            </a:prstGeom>
            <a:solidFill>
              <a:srgbClr val="00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3080" bIns="45000" anchor="t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Suivi régional des Parcours VA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1800" spc="-1" strike="noStrike">
                  <a:solidFill>
                    <a:srgbClr val="ffffff"/>
                  </a:solidFill>
                  <a:latin typeface="Arial"/>
                </a:rPr>
                <a:t>Provence Alpes Côte d‘Azu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3000"/>
                </a:lnSpc>
                <a:tabLst>
                  <a:tab algn="l" pos="0"/>
                  <a:tab algn="l" pos="723960"/>
                  <a:tab algn="l" pos="1447920"/>
                  <a:tab algn="l" pos="2171880"/>
                  <a:tab algn="l" pos="2895480"/>
                  <a:tab algn="l" pos="3619440"/>
                  <a:tab algn="l" pos="4343400"/>
                  <a:tab algn="l" pos="5067360"/>
                  <a:tab algn="l" pos="5791320"/>
                  <a:tab algn="l" pos="6515280"/>
                  <a:tab algn="l" pos="7238880"/>
                  <a:tab algn="l" pos="7962840"/>
                  <a:tab algn="l" pos="8686800"/>
                  <a:tab algn="l" pos="941076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1" i="1" lang="fr-FR" sz="2800" spc="-1" strike="noStrike">
                  <a:solidFill>
                    <a:srgbClr val="ffffff"/>
                  </a:solidFill>
                  <a:latin typeface="Arial"/>
                </a:rPr>
                <a:t>Interface d‘export des données certificateur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723280" y="108000"/>
              <a:ext cx="4197960" cy="32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Identifiant : Dupond I Direccte I </a:t>
              </a:r>
              <a:r>
                <a:rPr b="0" lang="fr-FR" sz="1600" spc="-1" strike="noStrike">
                  <a:solidFill>
                    <a:srgbClr val="ccccff"/>
                  </a:solidFill>
                  <a:latin typeface="Arial"/>
                </a:rPr>
                <a:t>déconnecter</a:t>
              </a:r>
              <a:r>
                <a:rPr b="0" lang="fr-FR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3Z</dcterms:created>
  <dc:creator/>
  <dc:description/>
  <dc:language>en-US</dc:language>
  <cp:lastModifiedBy>Bruno</cp:lastModifiedBy>
  <dcterms:modified xsi:type="dcterms:W3CDTF">2010-09-08T09:38:17Z</dcterms:modified>
  <cp:revision>9</cp:revision>
  <dc:subject/>
  <dc:title>Diapositive 1</dc:title>
</cp:coreProperties>
</file>